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28260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About M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A presentation for my computer teacher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Favorite School Subject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enjoy math, science, and social studi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nglish not one of my favorite class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like going to junior high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Introductio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am a student in 7</a:t>
            </a:r>
            <a:r>
              <a:rPr b="0" lang="en-GB" sz="3200" spc="-1" strike="noStrike" baseline="33000">
                <a:solidFill>
                  <a:srgbClr val="e6e6e6"/>
                </a:solidFill>
                <a:latin typeface="Times New Roman"/>
              </a:rPr>
              <a:t>th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grad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like to fix thing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come from a family of 6 childre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live on a farm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get to milk a cow each night after schoo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 the summers I work for my dad stacking hay and hoeing dodd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 the summer my family usually takes a vacat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y Famil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live in a small farming communit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have 2 brothers and 3 sister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y younger brother Ray is just 2 years younger than me but he is about my  size and we look a lot alik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e play a lot togeth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Where I Liv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live in a on a farm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y community is in a desert area in western Utah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I Like to...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like to fix thing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y dad lets me do some of the welding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have a work bench with tools in the basement of our house where I can build thing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y mother has me fix things around the hous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y Friend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 my community there are 10 boys my ag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e have been together since kindergarte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teve and Ray are probably my favorites but I play with everyon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y Room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y room is in the back part of the hous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t was a building at the Topaz Camp until my parents added it on to the hous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t gets really cold in the winter tim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have my own desk and book case so I can study and do home work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t is a fairly big room and I share it with my broth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y Favorite Music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like to listen to the radio at nigh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e listen to KOMA on  AM radio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t plays lots of oldies music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ome of the music comes from the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Beatl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imon and Garfunkel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The Beach Boy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The Carpenter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James Taylo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chool I Have Attende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hen I went to kindergarten it was during the summer for 6 week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attended an elementary with 4 rooms and 4 teacher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very teacher had two grades in their classroom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r. Moody was one of my favorite teacher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 Mr. Moody's room we made lots of fun crafts project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 7</a:t>
            </a:r>
            <a:r>
              <a:rPr b="0" lang="en-GB" sz="3200" spc="-1" strike="noStrike" baseline="33000">
                <a:solidFill>
                  <a:srgbClr val="e6e6e6"/>
                </a:solidFill>
                <a:latin typeface="Times New Roman"/>
              </a:rPr>
              <a:t>th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grade we got to go to town to the junior high schoo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